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38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52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29E4B-B9F4-4AE3-843C-4F6F94003D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803-E07C-4324-9D22-B5369181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D89-3236-43BD-9047-D3935816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C4C-141D-40C6-91FA-AF43B267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EE7-48A6-488C-8D7D-DF53572B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23AB-24F1-4351-A687-EC77D419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FD8D-909D-4C0E-9EBD-4320EC4F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66A7-D66E-4F77-86D8-D0D7E398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DCC0-6494-417D-8ACD-A9A8C276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7558-9E00-4E13-8887-7B22CFED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568E-AD56-47C1-A3AE-A7D29BB8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8296-D19A-46E3-8D80-3622AC3C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41C-26E2-472F-9014-7E44A712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2DA0-5E84-43E6-9C7D-6D052DF3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6805-F179-4E97-B853-2B43A4D2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CA40-D660-4C94-9C3B-2A3AEE72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5298-B669-4CF9-BC3E-B25E5C2D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EDDD-7726-4423-A3A1-DCBB6D9F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9EA-0177-43F9-9525-D3E394F6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E6C-EAF1-4688-A883-AA90CB72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479-8D0C-4F08-B31F-D206BD0C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180-26C1-4E61-BFFC-4EFFB04D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E68-FE14-4E9B-BB91-EDD2B67A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884-FA62-4B20-BE75-9B6A4CDC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E1E-9ADD-4944-8F55-D07AB1B6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360" y="304920"/>
            <a:ext cx="7611840" cy="1104480"/>
            <a:chOff x="1071360" y="304920"/>
            <a:chExt cx="7611840" cy="1104480"/>
          </a:xfrm>
        </p:grpSpPr>
        <p:sp>
          <p:nvSpPr>
            <p:cNvPr id="1" name=""/>
            <p:cNvSpPr/>
            <p:nvPr/>
          </p:nvSpPr>
          <p:spPr>
            <a:xfrm flipH="1">
              <a:off x="4867920" y="304920"/>
              <a:ext cx="11044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0160" y="30492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000" y="306000"/>
              <a:ext cx="11026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160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72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E5F59-D577-468E-9DFA-825DB71D93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5320" cy="3198600"/>
            <a:chOff x="1658520" y="1600200"/>
            <a:chExt cx="6835320" cy="3198600"/>
          </a:xfrm>
        </p:grpSpPr>
        <p:sp>
          <p:nvSpPr>
            <p:cNvPr id="48" name=""/>
            <p:cNvSpPr/>
            <p:nvPr/>
          </p:nvSpPr>
          <p:spPr>
            <a:xfrm flipH="1">
              <a:off x="6970320" y="160020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0400" y="160020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120" y="1600200"/>
              <a:ext cx="152352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327564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564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0320" y="3275640"/>
              <a:ext cx="152316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CC0008-0D67-4163-ABDE-997EFDECB0F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389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6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86920" y="3933720"/>
            <a:ext cx="727236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Modul št. 2/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PRIMER OBLIKOVANJA NOVEGA POKLICNEGA PROFILA ( POMELA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Alenka STUPAR, univ, dipl. s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21.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40360" y="83664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iprava pobu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86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opi tipičnih del v poklicu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a potreb na trgu dela glede na                                                                                    dolgoročni razvoj gospodarstva oz.                                                                                     dejavnosti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na podlaga oz. predpisi v SLO in                                                                            državah EU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narodna primerljivost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ovalci pobude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likovanje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 in koda poklica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ven zahtevnosti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licne kompetence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jučna dela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aloge za dokazovanja usposoblje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kataloga Pletar 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 Priloga: Katalog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47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 in naloge (ključna dela)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oge za dokazovanje usposoblj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loga: Identifikacija novih poklicnih                                                                          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70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irajte 3 nove poklicne profile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erite enega glede na perspektivnost                                                                    dejavnosti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te Pobudo za oblikovanje                                                                              poklicnega  standarda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ujte poklicni standard (raven                                                                                        zahtevnosti, poklicne kompetence,                                                                                    opis poklicnega standarda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2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iran projekt za realizacijo že                                                                                     zastavljene iniciative lokalne skupnosti za                                                                        razvoj perspektivnih dejavnosti na osnovi                                                                           lokalnih razvojnih potencialov – tradicije                                                                             domače obrti (lončarstvo – pletarstvo)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irane potrebe po novih znanjih in                                                                            spretnostih za opravljanje dejavnosti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2600" cy="83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elani programi usposabljanj (za pletenje                                                                                                                                            izdelkov iz ličja in oblikovanja in gline)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postavljena in delujoča učna delovanica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Nacionalnih poklicnih kvalifikacijah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riteriji za izbor novih poklicnih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pektivnost dejavnosti glede na nove potrebe trga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evilo potencialnih kandidatov za N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cija na področju izdelovanja izdelkov domačih obrti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spektivnost deja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8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ponudbe in povpraševanja po                                                                                izdelkih naravnih materialov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uporabe naravnih                                                                           materialov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razvoja podeželja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pni servis za razvoj in trženje izdelkov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človeških vi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5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očitev kriterijev za izbor ciljne skupine                                                                           (BO, podzaposleni, končana OŠ ali brez,                                                                          lastnik/najemnik  zemlje)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brezposelnih oseb na                                                                      podeželju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podzaposlenih na                                                                             podeželju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icija domače obr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delujočih izdelovalcev izdelkov                                                                               iz naravnih materialov v Prekmurju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znanj in spretnosti s področja                                                                         domačih obrti pri lokalnem prebivalstvu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morebitnih programov                                                                                     usposabljanj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brana nova poklicn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19280"/>
            <a:ext cx="82170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tar/pletarka iz ličja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čar/lončar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opek oblikovanja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713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pobude (pobudo je pripravil                                                                                   nosilec projekta)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novanje delovne skupine za pripravo                                                                        kataloga standardov strokovnih znanj in                                                                             spretnosti (sodelovanje različnih strok)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ovni sodelavec s strani CPI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Kataloga standardov strokovnih                                                                            znanj in spretnosti za 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ditev na Strokovnem svetu RS za                                                                                 poklicno in strokovno izobraževanje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na Kociper</cp:lastModifiedBy>
  <dcterms:modified xsi:type="dcterms:W3CDTF">2007-10-03T12:12:44Z</dcterms:modified>
  <cp:revision>7</cp:revision>
  <dc:subject/>
  <dc:title>Modul št. 2/b PRIMER OBLIKOVANJA NOVEGA POKLICNEGA PROFILA ( POMELAJ) Alenka STUPAR, univ, dipl. soc.  21. september 2007</dc:title>
</cp:coreProperties>
</file>